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9BC0-472A-47F1-9BE1-DDB9DC76C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5698-3989-4348-96D2-645473319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0159-914E-4F37-A605-D7E1B3026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грисане академске студије фармације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8560" y="2565360"/>
            <a:ext cx="87850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ИВНИ ПРЕПАР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днос дроге и раствар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177300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екстракције – екстракција укупних ектрактивних материја или екстракција одређене компоненте из материјал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укупних екстрактивних материја се повећава са порастом односа дрога : растварач и са продужењем времена екстракциј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трајања екстракције зависи од молекулске масе активних и баласних материј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а маса активних супстанци мања од баласних – скраћује се време екстракције јер активна супстанца брзо дифунду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а маса активних супстанци велика – продужава се екстракција јер је дифузија отежа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125000"/>
            <a:ext cx="82915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лови екстр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екстракције се повећава и мешањем због повећања концентрационог градијента у растварачу и брзине дифу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дифузије је директно пропорционална температури а обрнуто пропорционална вискозитету средине и молекулској маси активн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екстракције на повишеној температури треба обратити пажњу на физичко-хемијске особине тј. термостабилност супста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052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етоде екст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на собној темпера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о дроге – 5 делова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ција траје 5 дана уз повремено мућк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 се одвоји од дроге цеђе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 стоји 2 дана након чега се филтр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тинктура прави мацерацијом 1 део дроге – 4 дела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потреба хладног растварача (смањује се разградња активних компонен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кстракција дуго траје и потребне су велике количине матер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ка или бимацерација </a:t>
            </a: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ција на собној температури два пута узастоп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за екстракцију дрога грубе конзистен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 степен искоришћења материјала јер се већ екстрахована дрога прелива свежим растварач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 се прелије са три дела растварача и мацерује три дана уз мешање. Мацерат се одвоји цеђењем и пресовањем а затим дрога прелије са преостала два дела растварача и мацерује још три д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и се сједине, оставе два дана на хладном месту и филтрир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ција на повишеној температури (30-50 степе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екстракције је нижа од температуре кључања употребљеног растварача и зависи од осетљивости активних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добијање уљаних екстрак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9280" y="981000"/>
            <a:ext cx="8640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ол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а екстракција дроге на одговарајућој температу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у пеколатору (цилиндрична ц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 се просеје кроз сито 0,75, прелије растварачем у перколатору и остави да бубри 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појаве првих капи из перколатора славина се затвара и дрога се мацерује 12 с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тога се славина отвори и перколат се испушта уз додавање растварача преко д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им перколатом се сматра количина која одговара маси дроге која се екстрах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олација није погодан процес за екстракцију водом, због могуће микробиолошке контаминациј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дустрији се перколацијом добијају етанолни, пропиленгликолни и глицеролни екстрак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концентрисања или сушења и стандардизације овакви екстракти се инкорпорирају у лековите и козметичке препарат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ercolation Extraction Method: processes, Types and More — Pharmabiro"/>
          <p:cNvPicPr/>
          <p:nvPr/>
        </p:nvPicPr>
        <p:blipFill>
          <a:blip r:embed="rId1"/>
          <a:stretch/>
        </p:blipFill>
        <p:spPr>
          <a:xfrm>
            <a:off x="179280" y="1125360"/>
            <a:ext cx="3130560" cy="471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PERCOLATOR | Albrigi Inherba | The world of aromatic plants, essential  oils, essence extraction and natural remedies"/>
          <p:cNvPicPr/>
          <p:nvPr/>
        </p:nvPicPr>
        <p:blipFill>
          <a:blip r:embed="rId2"/>
          <a:stretch/>
        </p:blipFill>
        <p:spPr>
          <a:xfrm>
            <a:off x="4356000" y="1125360"/>
            <a:ext cx="3110040" cy="4680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3780000" y="602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ол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126828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ерко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поновне перколације биљног материјала добијеним перкол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израду течних екстраката из ароматичних др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циона екстр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екстракције у ком растварач континуирано циркулише кроз стуб д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олвенс се користи етанол 70%, етанол 50% или пречишћена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чна екстр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применом ултра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лтразвучно купатило или ултразвучне со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екстракције се мора проверити стабилност активних компоненти да не би дошло до хемијске разградње. Могућа је и деградација због повишене темп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, економична и ефикасна замена осталим екстракционим поступ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ИТЊЕНОСТ БИЉНИХ Д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 дроге су осушени делови биљака који се могу користити у лековите сврхе (корен, лист, цве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трактивни лековити препарати су течни, чврсти или получврсти препарати добијени екстракционим поступц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љних др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 дрог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е структуре и у њима се налазе бројни активни и споредни принципи као и баласне материје које могу да ометају израду екстрактивног препарата (нпр. скроб при изради екстракта белог сле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валитет екстракције битно утиче правилна уситњеност дрога, што се нарочито опажа код корена, семена и коре који имају тврда и непропусна биљна ткива за раствар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дрога није довољно уситњена екстракција ће бити непотпуна, а ако је превише уситњена тешко се одваја од раствар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800000"/>
                </a:solidFill>
                <a:latin typeface="Times New Roman"/>
              </a:rPr>
              <a:t>Ph. Jug. IV –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монограф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кстрактивни препар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У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КО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АЦЕ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ТИН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КСТРА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ЧАЈЕ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ИРУПИ (када садрже екстракте 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us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екстракти дрога који се добијају преливањем дрога кључалом водом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елова дроге – 100 делова инфуз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рога јаког деловања мора бити прописана количина дро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 се прелије истом количином хладне воде ради бубрења (5 минут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ије се кључалом водом и остави поклопљено 30 мину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 на хладном месту, три дана, пре употребе промућкати.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инфуза од алкалоидних дрог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ретходно описаном поступку, само што се дрога претходно накваси оном количином раствора лимунске киселине који одговара прописаном садржају алкалоида у дрог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ај начин се алкалоиди нерастворни у води преводе у растворне цитр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u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ИСАЊ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прописан одређени конзерванс обично се додаје 0,1% метилхидроксибензо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другачије прописано, три дана на хладном мес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је се са напоменом “Пре употребе промућкати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и 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erat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екстракти дрога за унутрашњу и спољашњу примену који се припремају екстракцијом дроге на собној температу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авилу од дрога које садрже слузи и термолабилне лековит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елова дроге – 100 делова мацер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не дроге 10 делова – 200 делова маце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мацерата од дрога јаког деловања мора бит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а количина дрог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и 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erat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ена дрога се прелије водом и уз повремено мешање остави да стоји, ако није другачије прописано, 30 минута на собној температури, затим процеди и дрога испере водом до прописане количине мацер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другачије прописано, на хладном месту, највише три дана после израд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50560" y="1052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кти 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ct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екстракти дрога добијени на повишеној температури – 90 </a:t>
            </a:r>
            <a:r>
              <a:rPr b="0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10 делова дроге прави се 100 делова деко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рога јаког деловања мора бити прописана количина д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 се уситни, накваси делом воде, дода прописана количина воде, измеша и покривено греје на воденој пар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ој темп. загрева се још 30 мин. и вруће процеди, остатак прогњечи, испере кључалом водом, процеди и допуни до прописане колич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кти 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ct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НЗЕРВИС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олико је потребно конзервисање а конзерванс није прописан, користи се 0,1% метилхидроксибензо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ЧУ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о није другачије прописано, на хладном месту, највише три дана након изра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 употребе промућк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јев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личне мешавине уситњених или неуситњених дрога. Катаплазме су чајеви искључиво за спољну примену – ОБЛО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адрже претежно лишће, цветове и зелене делове биљке узима се 1 ВЕЛИКА кашика (око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 2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адрже претежно кору, корење, поданке, дрво или плодове узима се 1 МАЛА кашика (око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 2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Times New Roman"/>
              </a:rPr>
              <a:t>Екстрактивни препарати</a:t>
            </a:r>
            <a:r>
              <a:rPr b="1" lang="sr-Latn-CS" sz="3200" spc="-1" strike="noStrike">
                <a:solidFill>
                  <a:srgbClr val="800000"/>
                </a:solidFill>
                <a:latin typeface="Times New Roman"/>
              </a:rPr>
              <a:t>  (Ph.Jug.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писује водене екстрактивне препарате, као што су: мацерати, инфузи и декокти а сирупе убраја у течне препарате за пероралну при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е (течне, меке и сув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ктуре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tur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-етанолни екстракти дрога или водено-етанолни раствори екстраката др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ктуре од дрога слабог деловања израђују се мацерацијом 1 део дроге – 4 дела раствар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ктуре од дрога јаког деловања израђују се перколацијом 1 део дроге – 10 делова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е, безбојне течности, мириса и укуса на дроге из којих су израђ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ИТЊЕНОСТ БИЉНИХ Д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880560"/>
            <a:ext cx="8496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другачије није наведено за мацерате, инфузе и декокте уситњеност биљних дрога треба да буде следе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лкалоидне дроге – сито 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468360" y="2060640"/>
            <a:ext cx="259236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Flos, folium, herb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то 6 - цвет, лист, надземни 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6084720" y="1989000"/>
            <a:ext cx="2449800" cy="208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Fructus, seme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то 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лод, с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348000" y="3284640"/>
            <a:ext cx="252108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Cortex,  radix, rhizoma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то 3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ра, ко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другачије прописано, у добро затвореној посуди, на собној температури, заштићено од свет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судама у којима се чувају тинктуре јаког деловања мора да се назначи датум последње контроле садрж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, прашкасти или получврсти препарати који се израђују екстракцијом дрога одговарајућим растварачима (најчешће етанол) неким од екстракционих поступа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е на течне, меке и суве екстрак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а наводи различите типове екстрака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изовани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тракти – подешени у оквиру дозвољеног одступања од датог садржаја активне супстанце са познатим терапијским ефекто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фиковани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тракти – подешени на дефинисан садржај активне супстанце у одговарајућем опсегу, али клиничка ефикасност тек треба да буде доказа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XTRACTA fluid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ечни екстрак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стракти дрога који се по правилу израђују тако да 1 део течног екстракта садржи активне материје 1 дела дро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су бистре, безбојне течности, мириса и укуса на дроге из којих су израђ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рађују се поступком перколације или мацерације са етанолом различите концентрације или са водом, или растварањем меких или сувих екстраката у једном од ових растварач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питивањ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: релативна густина, садржај етанола, садржај метанола, суви оста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EXTRACTA sicc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уви екстрак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 чврсти екстракти дрога из којих је погодним поступком потпуно отклоњено средство (растварач) за екстрак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: перколацијом или двоструком мацерацијом, уз отклањање баласних материја и упаравање и сушење на температури не вишој од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5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: обојени прашкови, грудвице или растресити комади, по правилу врло хигроскоп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: У добро затвореној посуди изнад средства за суш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560" y="1197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воде – треба да одговара прописима фармакопе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ак сушењем – према пропису фармакопеје (обично износи 5 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EXTRACTA spissa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еки екстрак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учврсти препарати добијени упаравањем или делимичним упаравањем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Ph.Jug V меки екстракти треба да имају суви остатак не мањи од 70% и могу да садрже конзерван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увају се заштићени од свет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s5kI81tRjN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тварачи за екстракцију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557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ацерати, инфузи, декокти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екстракти и тинктуре), глицерол, пропиленгликол, ацетон, етар, хлороформ и масна уљ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компоненте које се екстрахују познате користи се одређени селективни раствар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астав није познат, екстракција се почиње са неполарним растварачем, а затим се наставља са све поларнијим растварачима, док се не добије серија екстраката растуће полар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qua purific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примењиван раствар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екстрахује многе активне компоненте дрога али и велику количину баласних ма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а средина за оксидативне и хидролитичке реакције деградације активних супстанци, омогућава развој микроорганизама, висока тачка кључања па је упаравање растварача дуг и неекономичан поступак који може угрозити стабилност активних ма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 селективан растварач, ниске тачке кључањ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 таложење протеина и на тај начин инхибира ензимске реакције разградње активних супстанц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 ниске токсичности, лако испарава па је упаравање растварача једноставн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лако запаљив, висока цена, могуће присуство метанола као нечистоће (дозвољен садржај до 0,05%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ни солве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, пропиленгликол, диетиленгликол, ПЕГ 400- користе се за израду екстраката у козметолог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 – има конзервишућа својства (&gt;20%), стабилизатор и корастварач у комбинацији са водом и етанолом. Раствара танине, гуме, неке смоле, скр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енгликол – меша се са водом и етанолом; као замена за глицерол; конзерванс (15-30%). Раствара етарска уља, алкалоиде, стероиде, неке б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А УЉ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нцокретово и маслиново уље, изопрпилмиристат – углавном се користе за израду биљних екстраката (уљани екстракт камилице, невена, кантариона) који улазе у састав дерматолошких и козметичких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ГАС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за екстракцију термолабилних и лако испарљивих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токсичан, селективан, незапаљив, природан, лако се уклања из препарата. Екстрахује испарљиве смоле и уља – лакше фракције, а не екстрахује протеине, воскове, шећере, хлорофил и пигмене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биљке до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plant1"/>
          <p:cNvPicPr/>
          <p:nvPr/>
        </p:nvPicPr>
        <p:blipFill>
          <a:blip r:embed="rId1"/>
          <a:stretch/>
        </p:blipFill>
        <p:spPr>
          <a:xfrm>
            <a:off x="914400" y="2286000"/>
            <a:ext cx="1644480" cy="261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xtract"/>
          <p:cNvPicPr/>
          <p:nvPr/>
        </p:nvPicPr>
        <p:blipFill>
          <a:blip r:embed="rId2"/>
          <a:stretch/>
        </p:blipFill>
        <p:spPr>
          <a:xfrm>
            <a:off x="2895480" y="2590920"/>
            <a:ext cx="152100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tube"/>
          <p:cNvPicPr/>
          <p:nvPr/>
        </p:nvPicPr>
        <p:blipFill>
          <a:blip r:embed="rId3"/>
          <a:stretch/>
        </p:blipFill>
        <p:spPr>
          <a:xfrm>
            <a:off x="5181480" y="2743200"/>
            <a:ext cx="102888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7010280" y="3048120"/>
            <a:ext cx="1781280" cy="165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1258920" y="1700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иљ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132000" y="17002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рови екс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952880" y="20574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то једињ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875640" y="2057400"/>
            <a:ext cx="181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ска струк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3429000" y="5257800"/>
            <a:ext cx="2819520" cy="1066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Биолошка а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>
            <a:off x="5334120" y="4495680"/>
            <a:ext cx="3045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3809880" y="4495680"/>
            <a:ext cx="3049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324480" y="34290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228600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4419720" y="3733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2:40Z</dcterms:modified>
  <cp:revision>114</cp:revision>
  <dc:subject/>
  <dc:title>Slide 1</dc:title>
</cp:coreProperties>
</file>